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F0A-CFE0-4934-B2E2-FA581087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8CB-AB75-4720-AB43-814AC45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937-B2CB-4F1D-800F-2E51B99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166-7133-4FD9-876F-90F50444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067-A6D0-4748-94AF-87AFDCDB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80C-9F2A-4420-8533-4661BA3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5F6-A136-4FAC-971E-A6FF855F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7C5-3F01-400D-BF30-F8745F0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5AB-29EA-4324-A516-FB2DC5DD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46D-23C8-4730-AB79-DF018A8E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F77-2E8F-466E-9D86-2BD1A54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2A0-B81F-48AB-B8BC-B207CC8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A6F-F2DB-4169-9265-048A330AD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685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基本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143000" y="1751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3560" y="29707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760" y="419004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9960" y="4723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50400" y="3580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9960" y="579024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4200" y="525672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8840" y="23612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点动控制程序与编程软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10880" y="487080"/>
            <a:ext cx="297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3.1.3  PLC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控制系统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80000"/>
            <a:ext cx="822960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控制系统硬件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是由大量的硬件继电器组成，结构复杂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主要是由程序（软继电器）组成，在硬件连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需要接入输入信号和受控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控制功能强大，修改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的功能是通过器件连线实现的，控制功能相对简单，并且不易改变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功能是由计算机软件实现的，不但具有强大的逻辑计算控制功能，而且可以根据工艺需要方便地修改控制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系统稳定、维护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能指标高，故障率低，抗干扰性强，能在工业生产环境下长期稳定工作。据统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的电气故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发生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外部电路。当电路发生故障时，可根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端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判断产生故障的部位，以便迅速排除故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30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800600" cy="403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556272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 PL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硬件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2520" y="396360"/>
            <a:ext cx="2579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4  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的硬件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20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逻辑运算和控制指挥中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651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固化着系统程序，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放用户程序和工作数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17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源将外部电能转换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器件使用的各种电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470200"/>
            <a:ext cx="2362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接口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外设进行交换信息和写入程序的通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29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46040" y="3492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4520" y="975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接口用来完成输入信号的引入、滤波及电平转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333400"/>
            <a:ext cx="21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接口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5160" y="5778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242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2560" y="4494960"/>
            <a:ext cx="18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371600"/>
          <a:ext cx="7391520" cy="4753440"/>
        </p:xfrm>
        <a:graphic>
          <a:graphicData uri="http://schemas.openxmlformats.org/drawingml/2006/table">
            <a:tbl>
              <a:tblPr/>
              <a:tblGrid>
                <a:gridCol w="808200"/>
                <a:gridCol w="1048680"/>
                <a:gridCol w="2012040"/>
                <a:gridCol w="1760400"/>
                <a:gridCol w="1762200"/>
              </a:tblGrid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体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闸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25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3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公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45640" y="68508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电路的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1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1360" y="758880"/>
            <a:ext cx="498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5  FX</a:t>
            </a:r>
            <a:r>
              <a:rPr b="1" lang="zh-CN" sz="2400" spc="-1" strike="noStrike" baseline="-30000">
                <a:solidFill>
                  <a:srgbClr val="cc0000"/>
                </a:solidFill>
                <a:latin typeface="Times New Roman MT Extra Bold"/>
                <a:ea typeface="黑体"/>
              </a:rPr>
              <a:t>2N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系列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基本单元的型号与端子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1640" y="1553760"/>
            <a:ext cx="391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基本单元的型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629400" cy="182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5166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基本单元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接口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继电器输出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8160" y="334440"/>
            <a:ext cx="409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基本单元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端子的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648320" cy="269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5257800" cy="269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144720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  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996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  FX2N-32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1720" y="3657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输出端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226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39280" y="3656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880" y="4510440"/>
            <a:ext cx="70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48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组情况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3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87120" y="563040"/>
            <a:ext cx="3356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6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循环扫描工作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24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02120" y="3656880"/>
            <a:ext cx="25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扫描工作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848720" y="57150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540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程序执行和输出刷新阶段，即使输入状态发生变化，程序也不读入新的输入数据，这样增强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抗干扰能力和程序执行的可靠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57920" y="410760"/>
            <a:ext cx="285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点动控制程序与编程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480" y="1020240"/>
            <a:ext cx="373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输入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和输出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24640" cy="1042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1440" y="30474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继电器的线圈和接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1320" y="35046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入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098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入继电器以八进制进行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360" y="49374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出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2284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出继电器也是八进制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19320" y="5324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9840" y="1065960"/>
            <a:ext cx="24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产品的外形、内部结构和面板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5334120" cy="484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54705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编程序控制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98800" y="334440"/>
            <a:ext cx="5409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2    L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I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U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0640" y="1218600"/>
            <a:ext cx="41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05120"/>
          <a:ext cx="7848720" cy="3657600"/>
        </p:xfrm>
        <a:graphic>
          <a:graphicData uri="http://schemas.openxmlformats.org/drawingml/2006/table">
            <a:tbl>
              <a:tblPr/>
              <a:tblGrid>
                <a:gridCol w="1143000"/>
                <a:gridCol w="1959120"/>
                <a:gridCol w="2103120"/>
                <a:gridCol w="1563840"/>
                <a:gridCol w="107964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辑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开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开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闭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闭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驱动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2000" y="456120"/>
            <a:ext cx="458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3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应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编程软件编写点动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2280"/>
            <a:ext cx="7696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点动控制线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动机的点动控制要求是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运转；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8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53040" y="6247800"/>
            <a:ext cx="36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控制线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线图和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1280" y="365400"/>
            <a:ext cx="5006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三菱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程软件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WOPC-FXGP/WIN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117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62240" y="23616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始启动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5715000" cy="3387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86600" y="4327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524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82280" y="5942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编辑的主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1120" cy="85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8880" y="456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输入对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7154" r="0" b="4204"/>
          <a:stretch/>
        </p:blipFill>
        <p:spPr>
          <a:xfrm>
            <a:off x="228600" y="1295280"/>
            <a:ext cx="8153280" cy="171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01320" y="312336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7925040" cy="193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96400" y="594288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58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2200" y="304740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6705720" cy="2530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67480" y="4662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转换为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0680" y="351000"/>
            <a:ext cx="2006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用户程序写入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6095880" cy="26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0" y="1659960"/>
            <a:ext cx="18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4191120" cy="217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690520" y="540936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93560" y="365400"/>
            <a:ext cx="190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程序或停止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733920" cy="19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6680" y="556200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4480" y="380520"/>
            <a:ext cx="114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程序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6213" r="0" b="0"/>
          <a:stretch/>
        </p:blipFill>
        <p:spPr>
          <a:xfrm>
            <a:off x="228600" y="914400"/>
            <a:ext cx="853452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382240" cy="20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12800" y="60951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48480" y="3038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00200"/>
          <a:ext cx="9144000" cy="1433520"/>
        </p:xfrm>
        <a:graphic>
          <a:graphicData uri="http://schemas.openxmlformats.org/drawingml/2006/table">
            <a:tbl>
              <a:tblPr/>
              <a:tblGrid>
                <a:gridCol w="1550880"/>
                <a:gridCol w="1554120"/>
                <a:gridCol w="2416320"/>
                <a:gridCol w="2403360"/>
                <a:gridCol w="12193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367720" y="715680"/>
            <a:ext cx="374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串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1860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12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20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040" y="410760"/>
            <a:ext cx="289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个简单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控制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065960"/>
            <a:ext cx="53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松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。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419720" cy="37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4760" y="58665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简单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接线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1371600"/>
          <a:ext cx="9144000" cy="1143000"/>
        </p:xfrm>
        <a:graphic>
          <a:graphicData uri="http://schemas.openxmlformats.org/drawingml/2006/table">
            <a:tbl>
              <a:tblPr/>
              <a:tblGrid>
                <a:gridCol w="1366920"/>
                <a:gridCol w="1366920"/>
                <a:gridCol w="2668320"/>
                <a:gridCol w="2522520"/>
                <a:gridCol w="12193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650320" y="105840"/>
            <a:ext cx="355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并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1000" y="8373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848720" cy="258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803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编写一个自锁控制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负载接触器接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2133720"/>
          <a:ext cx="9144000" cy="1279440"/>
        </p:xfrm>
        <a:graphic>
          <a:graphicData uri="http://schemas.openxmlformats.org/drawingml/2006/table">
            <a:tbl>
              <a:tblPr/>
              <a:tblGrid>
                <a:gridCol w="1512720"/>
                <a:gridCol w="2632320"/>
                <a:gridCol w="2631960"/>
                <a:gridCol w="2367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可用程序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不可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  殊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188520" y="137880"/>
            <a:ext cx="2344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辅助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883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作用类似于中间继电器。辅助继电器也有常开和常闭接点，但是不能直接驱动外部负载，外部负载只能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驱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58080" y="159948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80844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运行监控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转时始终保持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初始脉冲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停止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转为运转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瞬时接通一个扫描周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零标记。加减运算结果为零时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否则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禁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143000"/>
          <a:ext cx="9144000" cy="1919160"/>
        </p:xfrm>
        <a:graphic>
          <a:graphicData uri="http://schemas.openxmlformats.org/drawingml/2006/table">
            <a:tbl>
              <a:tblPr/>
              <a:tblGrid>
                <a:gridCol w="1154160"/>
                <a:gridCol w="1601640"/>
                <a:gridCol w="1892520"/>
                <a:gridCol w="1828800"/>
                <a:gridCol w="2666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接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清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断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989080" y="137160"/>
            <a:ext cx="339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置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9600" y="685080"/>
            <a:ext cx="35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246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置位指令与复位指令编写具有自锁功能的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输出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37120" y="151200"/>
            <a:ext cx="457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自锁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7920" y="68508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066680"/>
          <a:ext cx="9144000" cy="1828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2720"/>
                <a:gridCol w="1662120"/>
                <a:gridCol w="21337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流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77320" cy="2930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8520" y="60192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19920" cy="5562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14712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20880" y="227520"/>
            <a:ext cx="1834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问题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6832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继电器控制线路中，停止按钮使用常闭触头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停止按钮是使用常闭触头还是使用常开触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522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停止按钮使用常开触头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，停止按钮使用常闭触头的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534520" cy="2386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5040" y="47998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使用不同触头的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637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生产设备中停止按钮要用常闭触头。同理，过载保护也应使用热继电器的常闭触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1402560"/>
            <a:ext cx="7467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热继电器的常闭触头是与接触器线圈串联还是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231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虽然热继电器的常闭触头与接触器线圈串联可以节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但在实际设备中，往往将多个热继电器的常闭触头串联，共同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并用这个端口联锁控制整个程序。因此，热继电器的常闭触头应占用一个输入端口为宜。在本书中，为了方便读者分析程序主要语句，有时也采用热继电器的常闭触头与接触器线圈串联的方式，即热继电器的常闭触头与程序无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1120" y="3038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2209680"/>
          <a:ext cx="9144000" cy="1660320"/>
        </p:xfrm>
        <a:graphic>
          <a:graphicData uri="http://schemas.openxmlformats.org/drawingml/2006/table">
            <a:tbl>
              <a:tblPr/>
              <a:tblGrid>
                <a:gridCol w="1219320"/>
                <a:gridCol w="1469880"/>
                <a:gridCol w="2873520"/>
                <a:gridCol w="2666880"/>
                <a:gridCol w="914400"/>
              </a:tblGrid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上升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闭合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下降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断开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705040" y="159948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494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脉冲上升沿、下降沿逻辑“取”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接通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→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断开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→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720" y="944280"/>
            <a:ext cx="5127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上升沿、下降沿“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P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533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两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交流接触器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出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止按钮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为了减小两台电动机同时启动对供电线路的影响，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延迟启动。控制要求是：按下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，延缓几秒钟后，松开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启动；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95280" y="2701800"/>
            <a:ext cx="7162920" cy="353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97680" y="632376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873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启动第一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启动第二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程序梯形图和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312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41828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程序工作原理如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按钮时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指令语句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P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开启动按钮的瞬间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断开，指令语句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  LDF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其后的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断电解除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5680" y="3733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21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26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开接点闭合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通电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负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。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。程序具有点动控制功能。该梯形图对应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语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219320"/>
          <a:ext cx="9143640" cy="2190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  <a:gridCol w="152388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246400" y="151200"/>
            <a:ext cx="4760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正反转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65640" y="7614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312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不通过停止按钮，直接按正反转按钮就可改变转向，因此需要采用按钮联锁。为了减轻变换瞬间反向电流对电动机的冲击，适当延长变换过程，即按下正转按钮时，先停止反转，延缓片刻松开正转按钮时，再接通正转，反转过程同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2600"/>
          <a:stretch/>
        </p:blipFill>
        <p:spPr>
          <a:xfrm>
            <a:off x="1219320" y="228600"/>
            <a:ext cx="6400800" cy="556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1652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29400" cy="489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977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35040" y="3798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209680"/>
          <a:ext cx="9144000" cy="73044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2819160"/>
                <a:gridCol w="198144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串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后串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410200" y="989640"/>
            <a:ext cx="40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电路块操作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B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57984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与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并联连接的电路称为并联电路块。当并联电路块与前面的电路串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并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并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串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串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串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7040" y="1675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5940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340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并联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成的并联电路块串联，然后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因此，要使用串联电路块指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01000" cy="321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64080" y="586656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6560" y="349920"/>
            <a:ext cx="48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77320" cy="337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221280" y="579060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143000"/>
          <a:ext cx="9146880" cy="730080"/>
        </p:xfrm>
        <a:graphic>
          <a:graphicData uri="http://schemas.openxmlformats.org/drawingml/2006/table">
            <a:tbl>
              <a:tblPr/>
              <a:tblGrid>
                <a:gridCol w="1296720"/>
                <a:gridCol w="1830600"/>
                <a:gridCol w="3114720"/>
                <a:gridCol w="1452600"/>
                <a:gridCol w="1452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并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并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776680" y="608760"/>
            <a:ext cx="32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0466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或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串联连接的电路称为串联电路块。当串联电路块与前面的电路并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串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串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并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并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并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得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84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的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联后再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，然后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程序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3311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83840" y="6247800"/>
            <a:ext cx="24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或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27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程序中使用了并联电路块形式和串联电路块形式，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3551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69160" y="56379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3280" y="198720"/>
            <a:ext cx="3083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．“上重下轻”、“左重右轻”的编程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543800" cy="2586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315200" cy="2508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304440" y="32457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32440" y="624780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760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手持编程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-20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指令语句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操作步骤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4760" y="140148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接通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52480" y="2133720"/>
          <a:ext cx="5867640" cy="1095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 MODE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程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 …在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LINE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…离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154160" y="338256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选择在线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4267080"/>
          <a:ext cx="6934320" cy="14605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MODE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 FUNCTION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MODE         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.   SETTING   8K                      …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存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2640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2612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86720" y="28188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3840" y="617148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-1440" y="1295280"/>
          <a:ext cx="9145440" cy="730440"/>
        </p:xfrm>
        <a:graphic>
          <a:graphicData uri="http://schemas.openxmlformats.org/drawingml/2006/table">
            <a:tbl>
              <a:tblPr/>
              <a:tblGrid>
                <a:gridCol w="2152800"/>
                <a:gridCol w="2154240"/>
                <a:gridCol w="2419200"/>
                <a:gridCol w="24192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交替输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6     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74480" y="137880"/>
            <a:ext cx="286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交替输出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600" y="837360"/>
            <a:ext cx="32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543800" cy="1760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92840" y="40377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替输出指令应用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6553080" cy="1544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57800" y="6247800"/>
            <a:ext cx="21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11760" y="379800"/>
            <a:ext cx="244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3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地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4464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地控制是指在多个地方控制同一台电动机的启动与停止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为两地控制一台电动机的输入端接线图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程序。两地启动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两地停止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上连接热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闭触点；输出端口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116520" y="5714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地控制接线图和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-4680" y="2666880"/>
          <a:ext cx="9148680" cy="246564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5680"/>
                <a:gridCol w="1523880"/>
                <a:gridCol w="15256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动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351520" y="15120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点动自锁混合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368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生产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除连续运行控制外，还需要用点动控制调整生产设备的状态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操作按钮分别是启动按钮、停止按钮和点动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41960" y="213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10080" cy="5232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91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混合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29400" cy="5318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30000" y="594288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组合控制线路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08760" y="3798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828800"/>
          <a:ext cx="9144000" cy="1825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定时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时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141360" y="791640"/>
            <a:ext cx="191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定时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30520" y="137088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494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是根据时钟脉冲累计计时的，时钟脉冲周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种规格，定时器的工作过程实际上是对时钟脉冲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有一个设定值寄存器，一个当前值寄存器。这些寄存器都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（即数值范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计时时间为设定值乘以定时器的计时单位（时钟脉冲周期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个定时器都有一个常开和常闭接点，这些接点可以无限次引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满足计时条件时开始计时，定时时间到时其常开接点闭合，常闭接点断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720" y="837720"/>
            <a:ext cx="287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普通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0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0" b="2175"/>
          <a:stretch/>
        </p:blipFill>
        <p:spPr>
          <a:xfrm>
            <a:off x="380880" y="1676520"/>
            <a:ext cx="8382240" cy="3070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46680" y="5028480"/>
            <a:ext cx="24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6000" y="1660680"/>
            <a:ext cx="3159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累计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6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5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9260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普通定时器不同的是，累计定时器在计时中途线圈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时，当前值寄存器中的数据可以保持，当线圈重新通电时，当前值寄存器在原来数据的基础上继续计时，直到累计时间达到设定值，定时器动作。累计定时器的当前值寄存器数据只能用复位指令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594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01040" y="1280160"/>
            <a:ext cx="19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接通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3424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6320" y="58665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接通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4240" y="379800"/>
            <a:ext cx="3538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将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中存储的原用户程序清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1160" y="914040"/>
            <a:ext cx="18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D/W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两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/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209680"/>
          <a:ext cx="6782040" cy="146052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  CLEAR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？                   …清除所有程序吗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 →     [GO]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→    [CLEAR]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79200" y="388584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键，则清除用户存储的程序，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4495680"/>
          <a:ext cx="6933960" cy="14605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        0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465440" y="31467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4160" y="4113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6544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断开控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0" r="0" b="4890"/>
          <a:stretch/>
        </p:blipFill>
        <p:spPr>
          <a:xfrm>
            <a:off x="533520" y="2286000"/>
            <a:ext cx="8229600" cy="2873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77720" y="5637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断开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39440" y="2894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产生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217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分别产生占空比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脉冲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时钟信号，在需要可以直接应用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中，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接点控制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1984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5104800"/>
            <a:ext cx="54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1218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实际应用中也可以组成振荡电路产生任意周期的脉冲信号。例如，产生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脉冲持续时间为一个扫描周期的信号，梯形图和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686800" cy="19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910240" y="4723560"/>
            <a:ext cx="28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生周期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脉冲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456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两个定时器产生一个占空比可调的任意周期的脉冲信号，脉冲信号的低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高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848720" cy="2853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4952880" cy="2505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77120" y="397764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69916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程序中元件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2933640"/>
          <a:ext cx="9145440" cy="2374920"/>
        </p:xfrm>
        <a:graphic>
          <a:graphicData uri="http://schemas.openxmlformats.org/drawingml/2006/table">
            <a:tbl>
              <a:tblPr/>
              <a:tblGrid>
                <a:gridCol w="1419120"/>
                <a:gridCol w="1722600"/>
                <a:gridCol w="1571400"/>
                <a:gridCol w="1476720"/>
                <a:gridCol w="1477800"/>
                <a:gridCol w="14778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2156040" y="151200"/>
            <a:ext cx="494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台电动机顺序启动控制线路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037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机械设备有三台电动机，控制要求如下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2960" y="213300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0" t="0" r="0" b="2799"/>
          <a:stretch/>
        </p:blipFill>
        <p:spPr>
          <a:xfrm>
            <a:off x="380880" y="228600"/>
            <a:ext cx="8610840" cy="491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177720" y="57906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4954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330000" y="60192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82800" y="37980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0520" y="990000"/>
            <a:ext cx="4105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进栈、读栈、出栈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R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86400" cy="486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53080" y="5333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堆栈指令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1066680"/>
          <a:ext cx="9144000" cy="2284200"/>
        </p:xfrm>
        <a:graphic>
          <a:graphicData uri="http://schemas.openxmlformats.org/drawingml/2006/table">
            <a:tbl>
              <a:tblPr/>
              <a:tblGrid>
                <a:gridCol w="1297080"/>
                <a:gridCol w="1446120"/>
                <a:gridCol w="510552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进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级数据依次下移到下一级单元；当前运算结果送入堆栈第一级单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；各级数据位置不发生上移或下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，其他各级数据依次上移到上一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478960" y="456480"/>
            <a:ext cx="39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41896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栈、读栈、出栈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该成对使用，而且连续使用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否则数据溢出丢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时，如果其后是单个接点，需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如果其后是电路块，则在电路块的始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然后用块与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961640" y="44208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014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62200" y="63237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720" y="53244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写入图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所示的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步指令语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17520"/>
            <a:ext cx="815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/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/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/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 EN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全部程序写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存储器，手持编程器屏幕上显示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1141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80880" y="4603680"/>
          <a:ext cx="7696440" cy="146052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0   LD     X    006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OUT    Y    000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END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961640" y="38016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5032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76800" y="58665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58000" y="684720"/>
            <a:ext cx="29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写出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程序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3899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94760" y="56379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二级堆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219320"/>
          <a:ext cx="91440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 令 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复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58520" y="213840"/>
            <a:ext cx="24026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7.2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主控、主控复位指令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80640" y="76140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8353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控、主控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接点接通时，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主控接点断开，计数器、累积定时器，以及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/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驱动的元件保持当前状态，其余的均处在断开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，左母线移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之后，所以要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返回到原来的母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必须成对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不同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号，可以多次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指令可以嵌套，但最多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嵌套级的编号顺次增大（按顺序由小到大），返回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根据编号从大到小开始解除（按顺序由大到小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987200" y="30384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38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467160" y="609516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6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控指令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379800"/>
            <a:ext cx="8458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7.3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989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要求如下：当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电动机绕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连接启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自动转为△形连接运行。当按下停上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电动机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13360" y="1980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2438280"/>
          <a:ext cx="9144000" cy="2924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热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5454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75040" y="60192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559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822760" y="62478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8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385080" y="151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50000" y="609120"/>
            <a:ext cx="2018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1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普通计数器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42960" y="1065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1523880"/>
          <a:ext cx="9144000" cy="1782720"/>
        </p:xfrm>
        <a:graphic>
          <a:graphicData uri="http://schemas.openxmlformats.org/drawingml/2006/table">
            <a:tbl>
              <a:tblPr/>
              <a:tblGrid>
                <a:gridCol w="1503360"/>
                <a:gridCol w="1508040"/>
                <a:gridCol w="1712880"/>
                <a:gridCol w="1371600"/>
                <a:gridCol w="30481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数器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数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2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152280" y="36882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的功能是对输入脉冲进行计数，计数发生在脉冲的上升沿，达到计数器设定值时，计数器接点动作。每个计数器都有一个常开和常闭接点，可以无限次引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有一个设定值寄存器，一个当前值寄存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计数器的设定值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7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的设定值范围是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普通计数器在计数过程中发生断电，则前面所计的数值全部丢失，再次通电后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掉电保持计数器在计数过程中发生断电，则前面所计数值保存，再次通电后从原来数值的基础上继续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除了计数端外，还需要一个复位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是循环计数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4040" y="121680"/>
            <a:ext cx="362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2  16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位增计数器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0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199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19760" cy="5459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6840" y="6323760"/>
            <a:ext cx="38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9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监控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69880" y="227520"/>
            <a:ext cx="63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延时多长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能通电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3460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51804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由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振荡电路开始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每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一次，使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使控制对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。因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延时时间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定时器的振荡周期值乘以计数器的设定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0.1×100×10=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9920" y="44190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8440" y="33444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运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639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方式开关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/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开关拨向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位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置于程序运行状态，程序运行指令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2720" y="1858680"/>
            <a:ext cx="97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1230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的结果符合控制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控制例子可以看出，一个完整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是由硬件和软件（用户程序）两部分组成。输入不同的用户程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便具有不同的控制功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456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计时时间都有一个最大值，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定时器最大计时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76.7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所需要的延时时间大于最大值，可以采用计数器与定时器配合获得较长延时时间。在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中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经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×18000×10 = 1800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延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接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344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06520" y="6323760"/>
            <a:ext cx="42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成的长延时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87360" y="1020240"/>
            <a:ext cx="483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8.3  3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增减计数器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3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231804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减计数器（又可称为双向计数器）有增计数和减计数两种工作方式，其计数方式由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决定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减计数，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程序中不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增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普通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增减计数器的工作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方式控制端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复位端 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信号输入端，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数器进行计数操作。计数器的当前值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增大）时，其接点接通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当计数器的当前值由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（减小）时，其接点断开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713560" cy="6477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2179080"/>
            <a:ext cx="15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增减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2200" y="266688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13080" y="487080"/>
            <a:ext cx="1850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2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应用、分类及程序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7280" y="1020240"/>
            <a:ext cx="2257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的主要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2600" y="16610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开关量逻辑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675440"/>
            <a:ext cx="17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模拟量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5800" y="219456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级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220896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运动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96760"/>
            <a:ext cx="170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32480" y="342792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结构可分为整体式和模块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02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小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微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小型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中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以上为大型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0993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接口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）总数的多少可分为微型机、小型机、中型机和大型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00:0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